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F94C-66DC-40E7-9239-0E3760B4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E96F-B846-4F3A-BE97-E705F955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1C23-0598-46EF-903D-614E6B73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53D-7274-42A6-91C8-5C48D2A6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E4F4-C898-436B-8D85-A52FB0EC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BB89-98C0-4E96-B66B-C9DCE7B0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F441-A207-47EA-9BC6-2689580B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D94B-42BB-4F9E-8DEC-78DC87F8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88DC-328D-488A-AF8C-6F2A03C9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58F-4BAA-4351-A5E6-94CB5836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BCA1-2215-4A60-B6CE-739145F6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2B59-676B-4C0C-9529-5CED4052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E8FA-6BC1-4DB6-BC20-638AE73251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7440" y="1676520"/>
            <a:ext cx="437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g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djustmen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1143000" y="838080"/>
            <a:ext cx="7010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20528"/>
          <a:stretch/>
        </p:blipFill>
        <p:spPr>
          <a:xfrm>
            <a:off x="838080" y="838080"/>
            <a:ext cx="7391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42058"/>
          <a:stretch/>
        </p:blipFill>
        <p:spPr>
          <a:xfrm>
            <a:off x="1066680" y="1371600"/>
            <a:ext cx="72392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99072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762120" y="6094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838080"/>
            <a:ext cx="7467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762120" y="83808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85800" y="60948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91440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762120" y="76212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20866"/>
          <a:stretch/>
        </p:blipFill>
        <p:spPr>
          <a:xfrm>
            <a:off x="114300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0" r="0" b="14633"/>
          <a:stretch/>
        </p:blipFill>
        <p:spPr>
          <a:xfrm>
            <a:off x="685800" y="609480"/>
            <a:ext cx="7620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17499"/>
          <a:stretch/>
        </p:blipFill>
        <p:spPr>
          <a:xfrm>
            <a:off x="762120" y="533520"/>
            <a:ext cx="7619760" cy="5790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666880" y="2895480"/>
            <a:ext cx="38102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0" b="85017"/>
          <a:stretch/>
        </p:blipFill>
        <p:spPr>
          <a:xfrm>
            <a:off x="990720" y="228600"/>
            <a:ext cx="761976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rcRect l="0" t="39642" r="0" b="17499"/>
          <a:stretch/>
        </p:blipFill>
        <p:spPr>
          <a:xfrm>
            <a:off x="990720" y="1600200"/>
            <a:ext cx="7619760" cy="251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76197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39642" r="0" b="17499"/>
          <a:stretch/>
        </p:blipFill>
        <p:spPr>
          <a:xfrm>
            <a:off x="838080" y="1447920"/>
            <a:ext cx="7620120" cy="3047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rcRect l="0" t="13932" r="0" b="75366"/>
          <a:stretch/>
        </p:blipFill>
        <p:spPr>
          <a:xfrm>
            <a:off x="838080" y="380880"/>
            <a:ext cx="7620120" cy="1067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7467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39642" r="0" b="17499"/>
          <a:stretch/>
        </p:blipFill>
        <p:spPr>
          <a:xfrm>
            <a:off x="914400" y="1600200"/>
            <a:ext cx="7620120" cy="3048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24646" r="0" b="66329"/>
          <a:stretch/>
        </p:blipFill>
        <p:spPr>
          <a:xfrm>
            <a:off x="914400" y="609480"/>
            <a:ext cx="7620120" cy="99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90720" y="4648320"/>
            <a:ext cx="7467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0" r="0" b="19752"/>
          <a:stretch/>
        </p:blipFill>
        <p:spPr>
          <a:xfrm>
            <a:off x="685800" y="685800"/>
            <a:ext cx="7924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6923"/>
          <a:stretch/>
        </p:blipFill>
        <p:spPr>
          <a:xfrm>
            <a:off x="762120" y="533520"/>
            <a:ext cx="7924680" cy="5333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38080" y="5029200"/>
            <a:ext cx="7772400" cy="1371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086600" y="6095880"/>
            <a:ext cx="1447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239240" cy="3962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66680" y="838080"/>
            <a:ext cx="7239240" cy="1143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0" y="1752480"/>
            <a:ext cx="1447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4082"/>
          <a:stretch/>
        </p:blipFill>
        <p:spPr>
          <a:xfrm>
            <a:off x="838080" y="762120"/>
            <a:ext cx="7620120" cy="5333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05720" y="5715000"/>
            <a:ext cx="16761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14400" y="5715000"/>
            <a:ext cx="74674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3505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74678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15384"/>
          <a:stretch/>
        </p:blipFill>
        <p:spPr>
          <a:xfrm>
            <a:off x="685800" y="914400"/>
            <a:ext cx="7848720" cy="4343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120" y="4648320"/>
            <a:ext cx="7619760" cy="990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705720" y="5257800"/>
            <a:ext cx="17524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619760" cy="3353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7619760" cy="990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0" y="1371600"/>
            <a:ext cx="17524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36713"/>
          <a:stretch/>
        </p:blipFill>
        <p:spPr>
          <a:xfrm>
            <a:off x="838080" y="1219320"/>
            <a:ext cx="76964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9T17:29:20Z</dcterms:modified>
  <cp:revision>201</cp:revision>
  <dc:subject/>
  <dc:title>Slide 1</dc:title>
</cp:coreProperties>
</file>